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BA3A-0C65-4369-A87C-CBA8258B2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C40F-BC29-439A-8C2D-8C7EA5520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3735-269C-4588-8B87-949967595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AD72-802D-4528-A349-CE53DF3D3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BEB9-BD17-4F97-8351-16AE2275D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6E36-7A44-4F25-86B9-A07808422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7443-C43B-4391-8F1A-44ACF9811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AF75-055E-4229-8427-F2C1248CC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214F-7BD4-4088-B4AC-C1E082D1D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C777-C38E-463D-A952-443BF103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2609-5B5E-4AC1-82DC-7B6062AA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416F-E521-4D86-852E-C22A5393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16E18-A464-4B8B-A5E9-737980886E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5"/>
          <p:cNvSpPr/>
          <p:nvPr/>
        </p:nvSpPr>
        <p:spPr>
          <a:xfrm>
            <a:off x="264600" y="195120"/>
            <a:ext cx="5711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70c0"/>
                </a:solidFill>
                <a:latin typeface="Arial"/>
                <a:ea typeface="Arial"/>
              </a:rPr>
              <a:t>СООТВЕТСТВИЯ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https://psv4.userapi.com/c235031/u8334488/docs/d43/7df4ca68b4f8/Viktorina_Podvig_uchitelstva.jpg?extra=bOkdtXJ2xlQItq9bFi0gNSxfKhOhIvlRwiX6q5_HW-yrIuyqJOyfNsdtw4pF4Hv0O-fBDFV9-vWSLLWJeYX9Qb89eB9FjiQOEAR52tMi4vWzuQGr3ni159hxwr32cqf6JeUn9bEjIjU-l6xeGMZ4"/>
          <p:cNvPicPr/>
          <p:nvPr/>
        </p:nvPicPr>
        <p:blipFill>
          <a:blip r:embed="rId1"/>
          <a:stretch/>
        </p:blipFill>
        <p:spPr>
          <a:xfrm>
            <a:off x="1042920" y="1203480"/>
            <a:ext cx="7201080" cy="360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7" descr="https://upload.wikimedia.org/wikipedia/commons/thumb/c/ce/Johan_amos_comenius_1592-1671.jpg/1280px-Johan_amos_comenius_1592-1671.jpg"/>
          <p:cNvPicPr/>
          <p:nvPr/>
        </p:nvPicPr>
        <p:blipFill>
          <a:blip r:embed="rId1"/>
          <a:stretch/>
        </p:blipFill>
        <p:spPr>
          <a:xfrm>
            <a:off x="5565600" y="2903400"/>
            <a:ext cx="1886040" cy="2135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5" descr="Януш Корчак"/>
          <p:cNvPicPr/>
          <p:nvPr/>
        </p:nvPicPr>
        <p:blipFill>
          <a:blip r:embed="rId2"/>
          <a:srcRect l="26768" t="7905" r="26256" b="20340"/>
          <a:stretch/>
        </p:blipFill>
        <p:spPr>
          <a:xfrm>
            <a:off x="3386160" y="2847960"/>
            <a:ext cx="2122560" cy="2160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3" descr="Лев Николаевич Толстой"/>
          <p:cNvPicPr/>
          <p:nvPr/>
        </p:nvPicPr>
        <p:blipFill>
          <a:blip r:embed="rId3"/>
          <a:stretch/>
        </p:blipFill>
        <p:spPr>
          <a:xfrm>
            <a:off x="5859360" y="766800"/>
            <a:ext cx="2990880" cy="1994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1" descr="Антон Семёнович Макаренко"/>
          <p:cNvPicPr/>
          <p:nvPr/>
        </p:nvPicPr>
        <p:blipFill>
          <a:blip r:embed="rId4"/>
          <a:srcRect l="26768" t="7905" r="26256" b="20340"/>
          <a:stretch/>
        </p:blipFill>
        <p:spPr>
          <a:xfrm>
            <a:off x="3641760" y="692280"/>
            <a:ext cx="2116080" cy="2155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9" descr="Лев Семенович Выготский"/>
          <p:cNvPicPr/>
          <p:nvPr/>
        </p:nvPicPr>
        <p:blipFill>
          <a:blip r:embed="rId5"/>
          <a:srcRect l="18327" t="0" r="18444" b="0"/>
          <a:stretch/>
        </p:blipFill>
        <p:spPr>
          <a:xfrm>
            <a:off x="7575480" y="2847960"/>
            <a:ext cx="1460520" cy="2146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1760" y="840960"/>
            <a:ext cx="45817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Лев Семенович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готск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775800" y="120600"/>
            <a:ext cx="75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  <a:ea typeface="Arial"/>
              </a:rPr>
              <a:t>БЛОК 1. ИСТОРИЯ ПЕДАГОГ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Заголовок 1"/>
          <p:cNvSpPr/>
          <p:nvPr/>
        </p:nvSpPr>
        <p:spPr>
          <a:xfrm>
            <a:off x="219240" y="1746360"/>
            <a:ext cx="45799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2. Антон Семенович Макарен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Заголовок 1"/>
          <p:cNvSpPr/>
          <p:nvPr/>
        </p:nvSpPr>
        <p:spPr>
          <a:xfrm>
            <a:off x="220680" y="2589120"/>
            <a:ext cx="45799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3. Лев Николаеви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Толс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Заголовок 1"/>
          <p:cNvSpPr/>
          <p:nvPr/>
        </p:nvSpPr>
        <p:spPr>
          <a:xfrm>
            <a:off x="220680" y="3435480"/>
            <a:ext cx="45799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4. Януш Корч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Заголовок 1"/>
          <p:cNvSpPr/>
          <p:nvPr/>
        </p:nvSpPr>
        <p:spPr>
          <a:xfrm>
            <a:off x="179280" y="4156200"/>
            <a:ext cx="4581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5. Ян Амо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Комен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5321160" y="2206800"/>
            <a:ext cx="3668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8458200" y="2063880"/>
            <a:ext cx="3650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3387600" y="4365720"/>
            <a:ext cx="3668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5688000" y="4432320"/>
            <a:ext cx="3650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"/>
          <p:cNvSpPr/>
          <p:nvPr/>
        </p:nvSpPr>
        <p:spPr>
          <a:xfrm>
            <a:off x="7559640" y="4491000"/>
            <a:ext cx="3668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53840" y="1488960"/>
            <a:ext cx="410364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ТИФЛОПЕДАГО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154800" y="68400"/>
            <a:ext cx="890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  <a:ea typeface="Arial"/>
              </a:rPr>
              <a:t>БЛОК 2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  <a:ea typeface="Arial"/>
              </a:rPr>
              <a:t>ПЕДАГОГИЧЕСКИЕ СПЕЦИАЛЬ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Заголовок 1"/>
          <p:cNvSpPr/>
          <p:nvPr/>
        </p:nvSpPr>
        <p:spPr>
          <a:xfrm>
            <a:off x="2585880" y="2136600"/>
            <a:ext cx="45799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2. ГУВЕРНЁ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Заголовок 1"/>
          <p:cNvSpPr/>
          <p:nvPr/>
        </p:nvSpPr>
        <p:spPr>
          <a:xfrm>
            <a:off x="2554200" y="2881440"/>
            <a:ext cx="45799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3. СУРДОПЕДАГ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Заголовок 1"/>
          <p:cNvSpPr/>
          <p:nvPr/>
        </p:nvSpPr>
        <p:spPr>
          <a:xfrm>
            <a:off x="2523960" y="3597120"/>
            <a:ext cx="45802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4. ОЛИГОФРЕНОПЕДАГ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Заголовок 1"/>
          <p:cNvSpPr/>
          <p:nvPr/>
        </p:nvSpPr>
        <p:spPr>
          <a:xfrm>
            <a:off x="2585880" y="4249800"/>
            <a:ext cx="4581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5. ЛОГОП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53840" y="1488960"/>
            <a:ext cx="410364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Апостол Андр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714240" y="171360"/>
            <a:ext cx="778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  <a:ea typeface="Arial"/>
              </a:rPr>
              <a:t>БЛОК 3. БИБЛЕЙСКИЕ МОТИВ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  <a:ea typeface="Arial"/>
              </a:rPr>
              <a:t>УЧЕНИКИ ИИСУСА ХРИ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Заголовок 1"/>
          <p:cNvSpPr/>
          <p:nvPr/>
        </p:nvSpPr>
        <p:spPr>
          <a:xfrm>
            <a:off x="2585880" y="2136600"/>
            <a:ext cx="45799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2. Апостол Иоанн Богос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Заголовок 1"/>
          <p:cNvSpPr/>
          <p:nvPr/>
        </p:nvSpPr>
        <p:spPr>
          <a:xfrm>
            <a:off x="2554200" y="2881440"/>
            <a:ext cx="45799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3. Апостол Пёт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Заголовок 1"/>
          <p:cNvSpPr/>
          <p:nvPr/>
        </p:nvSpPr>
        <p:spPr>
          <a:xfrm>
            <a:off x="2523960" y="3597120"/>
            <a:ext cx="45802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4. Апостол Ф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Заголовок 1"/>
          <p:cNvSpPr/>
          <p:nvPr/>
        </p:nvSpPr>
        <p:spPr>
          <a:xfrm>
            <a:off x="2585880" y="4249800"/>
            <a:ext cx="4581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5. Апостол Мар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Заголовок 1"/>
          <p:cNvSpPr/>
          <p:nvPr/>
        </p:nvSpPr>
        <p:spPr>
          <a:xfrm>
            <a:off x="217440" y="4230720"/>
            <a:ext cx="4581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5. Мери Поппин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https://img.1tv.com/img/2021-10-04/fmt_96_24_1633527278_1.jpg"/>
          <p:cNvPicPr/>
          <p:nvPr/>
        </p:nvPicPr>
        <p:blipFill>
          <a:blip r:embed="rId1"/>
          <a:srcRect l="6253" t="0" r="15002" b="0"/>
          <a:stretch/>
        </p:blipFill>
        <p:spPr>
          <a:xfrm>
            <a:off x="2968560" y="915840"/>
            <a:ext cx="2590920" cy="1851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https://i.pinimg.com/736x/fb/eb/2a/fbeb2ad017b9567b62a7ed425c0aeb0a.jpg"/>
          <p:cNvPicPr/>
          <p:nvPr/>
        </p:nvPicPr>
        <p:blipFill>
          <a:blip r:embed="rId2"/>
          <a:stretch/>
        </p:blipFill>
        <p:spPr>
          <a:xfrm>
            <a:off x="5707080" y="765000"/>
            <a:ext cx="1598760" cy="2032200"/>
          </a:xfrm>
          <a:prstGeom prst="rect">
            <a:avLst/>
          </a:prstGeom>
          <a:ln w="0">
            <a:noFill/>
          </a:ln>
        </p:spPr>
      </p:pic>
      <p:sp>
        <p:nvSpPr>
          <p:cNvPr id="74" name="TextBox 5"/>
          <p:cNvSpPr/>
          <p:nvPr/>
        </p:nvSpPr>
        <p:spPr>
          <a:xfrm>
            <a:off x="829080" y="114480"/>
            <a:ext cx="735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  <a:ea typeface="Arial"/>
              </a:rPr>
              <a:t>БЛОК 4. МАССОВАЯ КУЛЬТУ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https://wiki.briefly.ru/images/b/b9/%D0%90%D0%BB%D1%8C%D0%B1%D1%83%D1%81_%D0%94%D0%B0%D0%BC%D0%B1%D0%BB%D0%B4%D0%BE%D1%80.jpg?20190124152402"/>
          <p:cNvPicPr/>
          <p:nvPr/>
        </p:nvPicPr>
        <p:blipFill>
          <a:blip r:embed="rId3"/>
          <a:stretch/>
        </p:blipFill>
        <p:spPr>
          <a:xfrm>
            <a:off x="7451640" y="771480"/>
            <a:ext cx="1540080" cy="1968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https://irecommend.ru/sites/default/files/imagecache/copyright1/user-images/1654489/m2V6CqRbsAhwQTg484ugQ.jpg"/>
          <p:cNvPicPr/>
          <p:nvPr/>
        </p:nvPicPr>
        <p:blipFill>
          <a:blip r:embed="rId4"/>
          <a:stretch/>
        </p:blipFill>
        <p:spPr>
          <a:xfrm>
            <a:off x="3052800" y="2922480"/>
            <a:ext cx="2548080" cy="2009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https://www.kp.ru/putevoditel/serialy/wp-content/uploads/2020/02/star-wars-obi-wan-kenobi-ben-4374-2048x1190.jpg"/>
          <p:cNvPicPr/>
          <p:nvPr/>
        </p:nvPicPr>
        <p:blipFill>
          <a:blip r:embed="rId5"/>
          <a:srcRect l="6214" t="0" r="0" b="0"/>
          <a:stretch/>
        </p:blipFill>
        <p:spPr>
          <a:xfrm>
            <a:off x="5651640" y="2924280"/>
            <a:ext cx="3197160" cy="19810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5707080" y="4338720"/>
            <a:ext cx="487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"/>
          <p:cNvSpPr/>
          <p:nvPr/>
        </p:nvSpPr>
        <p:spPr>
          <a:xfrm>
            <a:off x="3052800" y="4338720"/>
            <a:ext cx="488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2"/>
          <p:cNvSpPr/>
          <p:nvPr/>
        </p:nvSpPr>
        <p:spPr>
          <a:xfrm>
            <a:off x="8481960" y="2216160"/>
            <a:ext cx="488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3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"/>
          <p:cNvSpPr/>
          <p:nvPr/>
        </p:nvSpPr>
        <p:spPr>
          <a:xfrm>
            <a:off x="5727600" y="2308320"/>
            <a:ext cx="487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"/>
          <p:cNvSpPr/>
          <p:nvPr/>
        </p:nvSpPr>
        <p:spPr>
          <a:xfrm>
            <a:off x="2998800" y="2203560"/>
            <a:ext cx="487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1760" y="840960"/>
            <a:ext cx="45817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Оби Ван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еноб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Заголовок 1"/>
          <p:cNvSpPr/>
          <p:nvPr/>
        </p:nvSpPr>
        <p:spPr>
          <a:xfrm>
            <a:off x="219240" y="1746360"/>
            <a:ext cx="45799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2. Сенсей Иру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Уми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Заголовок 1"/>
          <p:cNvSpPr/>
          <p:nvPr/>
        </p:nvSpPr>
        <p:spPr>
          <a:xfrm>
            <a:off x="220680" y="2589120"/>
            <a:ext cx="45799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3. Мисс Грей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Грейв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Заголовок 1"/>
          <p:cNvSpPr/>
          <p:nvPr/>
        </p:nvSpPr>
        <p:spPr>
          <a:xfrm>
            <a:off x="219240" y="3422520"/>
            <a:ext cx="45799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4. Профессо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Альбус Дамблд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0" descr="https://avatars.dzeninfra.ru/get-zen_doc/1336031/pub_5d80b57b86c4a900acdf00de_5d80b8f092414d00aeeefa90/scale_1200"/>
          <p:cNvPicPr/>
          <p:nvPr/>
        </p:nvPicPr>
        <p:blipFill>
          <a:blip r:embed="rId1"/>
          <a:stretch/>
        </p:blipFill>
        <p:spPr>
          <a:xfrm>
            <a:off x="5880240" y="2967120"/>
            <a:ext cx="2720880" cy="2036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https://images.golos.io/DQmSZEdEwa1bJABqqV6cBmV9wkdcF1QWdbNvgNyPBa7zVdf/2019-06-10%2014-10-22.JPG"/>
          <p:cNvPicPr/>
          <p:nvPr/>
        </p:nvPicPr>
        <p:blipFill>
          <a:blip r:embed="rId2"/>
          <a:stretch/>
        </p:blipFill>
        <p:spPr>
          <a:xfrm>
            <a:off x="227160" y="3076560"/>
            <a:ext cx="4271760" cy="2035080"/>
          </a:xfrm>
          <a:prstGeom prst="rect">
            <a:avLst/>
          </a:prstGeom>
          <a:ln w="0">
            <a:noFill/>
          </a:ln>
        </p:spPr>
      </p:pic>
      <p:sp>
        <p:nvSpPr>
          <p:cNvPr id="89" name="TextBox 5"/>
          <p:cNvSpPr/>
          <p:nvPr/>
        </p:nvSpPr>
        <p:spPr>
          <a:xfrm>
            <a:off x="1043280" y="114480"/>
            <a:ext cx="692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  <a:ea typeface="Arial"/>
              </a:rPr>
              <a:t>БЛОК 5. ЗАЧЕМ ЭТО НУЖН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5880240" y="4476600"/>
            <a:ext cx="487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206280" y="4587840"/>
            <a:ext cx="487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https://proza.ru/pics/2018/02/04/2065.jpg"/>
          <p:cNvPicPr/>
          <p:nvPr/>
        </p:nvPicPr>
        <p:blipFill>
          <a:blip r:embed="rId3"/>
          <a:stretch/>
        </p:blipFill>
        <p:spPr>
          <a:xfrm>
            <a:off x="533520" y="760320"/>
            <a:ext cx="2104920" cy="2102040"/>
          </a:xfrm>
          <a:prstGeom prst="rect">
            <a:avLst/>
          </a:prstGeom>
          <a:ln w="0">
            <a:noFill/>
          </a:ln>
        </p:spPr>
      </p:pic>
      <p:sp>
        <p:nvSpPr>
          <p:cNvPr id="93" name="TextBox 2"/>
          <p:cNvSpPr/>
          <p:nvPr/>
        </p:nvSpPr>
        <p:spPr>
          <a:xfrm>
            <a:off x="549360" y="2355840"/>
            <a:ext cx="487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https://avatars.mds.yandex.net/get-mpic/4615588/img_id3425990097656984869.jpeg/orig"/>
          <p:cNvPicPr/>
          <p:nvPr/>
        </p:nvPicPr>
        <p:blipFill>
          <a:blip r:embed="rId4"/>
          <a:stretch/>
        </p:blipFill>
        <p:spPr>
          <a:xfrm>
            <a:off x="3132000" y="738360"/>
            <a:ext cx="2151360" cy="2195280"/>
          </a:xfrm>
          <a:prstGeom prst="rect">
            <a:avLst/>
          </a:prstGeom>
          <a:ln w="0">
            <a:noFill/>
          </a:ln>
        </p:spPr>
      </p:pic>
      <p:sp>
        <p:nvSpPr>
          <p:cNvPr id="95" name="TextBox 2"/>
          <p:cNvSpPr/>
          <p:nvPr/>
        </p:nvSpPr>
        <p:spPr>
          <a:xfrm>
            <a:off x="2987640" y="2338560"/>
            <a:ext cx="487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https://ic.pics.livejournal.com/nelidova_ng/83946200/183305/183305_original.jpg"/>
          <p:cNvPicPr/>
          <p:nvPr/>
        </p:nvPicPr>
        <p:blipFill>
          <a:blip r:embed="rId5"/>
          <a:stretch/>
        </p:blipFill>
        <p:spPr>
          <a:xfrm>
            <a:off x="5707080" y="803160"/>
            <a:ext cx="3067200" cy="2046240"/>
          </a:xfrm>
          <a:prstGeom prst="rect">
            <a:avLst/>
          </a:prstGeom>
          <a:ln w="0">
            <a:noFill/>
          </a:ln>
        </p:spPr>
      </p:pic>
      <p:sp>
        <p:nvSpPr>
          <p:cNvPr id="97" name="TextBox 2"/>
          <p:cNvSpPr/>
          <p:nvPr/>
        </p:nvSpPr>
        <p:spPr>
          <a:xfrm>
            <a:off x="8209080" y="2338560"/>
            <a:ext cx="488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3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2T09:07:49Z</dcterms:created>
  <dc:creator>zerkalo</dc:creator>
  <dc:description/>
  <dc:language>en-US</dc:language>
  <cp:lastModifiedBy>ALFA</cp:lastModifiedBy>
  <dcterms:modified xsi:type="dcterms:W3CDTF">2023-01-25T20:07:34Z</dcterms:modified>
  <cp:revision>141</cp:revision>
  <dc:subject/>
  <dc:title>Слайд 1</dc:title>
</cp:coreProperties>
</file>